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2AC7-AC6F-490B-BF32-1229AC9C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D2C7-03A6-4577-B5AA-008EAD4F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7E76-4568-4446-9EED-51148DBB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0E57-6627-4D7B-8790-8082862D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5ACA-1FB7-4B50-A3B2-57930782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C942-40A5-41E8-AC51-AE534C06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1210-C3CC-412A-A31F-2B3949BE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FAC3-A92D-4CE0-BA65-E4E17DD0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BE97-6E84-4499-A748-D446B512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F2C1-9B98-4D10-B80B-7B2C4450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FEE3-3E54-4757-BB8F-51301CAC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4C34-17B0-4B7F-8A4B-8B3FBD9E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CFB1-B193-4B61-AF95-080D3786C8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8600" y="1905120"/>
            <a:ext cx="543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Quantitativ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efini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f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7162920" cy="914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66680" y="3886200"/>
            <a:ext cx="7162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772400" cy="3902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52680" y="380880"/>
            <a:ext cx="25909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4267080"/>
            <a:ext cx="7696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2574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62120" y="3311640"/>
            <a:ext cx="754380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2575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2120" y="3200400"/>
            <a:ext cx="7543800" cy="141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7543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1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620120" cy="3200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3657600"/>
            <a:ext cx="76201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16292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066680" y="2819520"/>
            <a:ext cx="7162920" cy="771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066680" y="3581280"/>
            <a:ext cx="7162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41:49Z</dcterms:modified>
  <cp:revision>210</cp:revision>
  <dc:subject/>
  <dc:title>Slide 1</dc:title>
</cp:coreProperties>
</file>